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FC10-DEE5-4766-9F2F-1E8BAB92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9922-63C1-49C4-8877-C734A2C3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906-CC54-464E-99AD-82FA1900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C11-FCBC-4C2B-A6E0-A3C5722B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13C-C7E0-43E5-BA63-11F8D094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09C-1A82-4FDB-8060-99E00E39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9D4-86A4-4130-A97A-7300D4C9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9C5-D67A-4624-B1B8-405A1E2A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DB78-6CA7-40C6-ABD6-6B236AF3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467-C247-41B1-BA1E-E8228AFB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C2F6-D096-42E4-AAD6-22A6CD49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3665-421F-41D4-BE70-905AC9F8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5069-4D8D-48FF-AB45-B8FEFE5FAE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rosv.r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alibri"/>
              </a:rPr>
              <a:t>Сложноподчиненные предлож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3735"/>
                </a:solidFill>
                <a:latin typeface="Calibri"/>
              </a:rPr>
              <a:t>Работу выполнил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3735"/>
                </a:solidFill>
                <a:latin typeface="Calibri"/>
              </a:rPr>
              <a:t>Лажанева Екатерин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3735"/>
                </a:solidFill>
                <a:latin typeface="Calibri"/>
              </a:rPr>
              <a:t>студентка 4 курс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3735"/>
                </a:solidFill>
                <a:latin typeface="Calibri"/>
              </a:rPr>
              <a:t>филологического факультет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3735"/>
                </a:solidFill>
                <a:latin typeface="Calibri"/>
              </a:rPr>
              <a:t>342 группы КГП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04.jpg"/>
          <p:cNvPicPr/>
          <p:nvPr/>
        </p:nvPicPr>
        <p:blipFill>
          <a:blip r:embed="rId1"/>
          <a:stretch/>
        </p:blipFill>
        <p:spPr>
          <a:xfrm rot="20996400">
            <a:off x="1297080" y="2936520"/>
            <a:ext cx="2476440" cy="3733920"/>
          </a:xfrm>
          <a:prstGeom prst="rect">
            <a:avLst/>
          </a:prstGeom>
          <a:ln w="0">
            <a:noFill/>
          </a:ln>
        </p:spPr>
      </p:pic>
      <p:sp>
        <p:nvSpPr>
          <p:cNvPr id="44" name="Выноска-облако 6"/>
          <p:cNvSpPr/>
          <p:nvPr/>
        </p:nvSpPr>
        <p:spPr>
          <a:xfrm rot="892800">
            <a:off x="2097000" y="512640"/>
            <a:ext cx="6748560" cy="29988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8"/>
          <p:cNvSpPr/>
          <p:nvPr/>
        </p:nvSpPr>
        <p:spPr>
          <a:xfrm rot="1032000">
            <a:off x="3189960" y="759240"/>
            <a:ext cx="441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Важно ли говорить выразительно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Вопросы, на которые мы должны ответ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spcBef>
                <a:spcPts val="601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Какие виды сложных предложений вам известн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601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Какие две классификации сложноподчиненных предложений существую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601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По какому принципу разделяются сложноподчиненные предложения на вид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601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Каковы особенности каждого вида сложноподчиненного предлож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601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При помощи каких союзов и союзных слов в СПП придаточные предложения присоединяются к главны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a50021"/>
                </a:solidFill>
                <a:latin typeface="Calibri"/>
              </a:rPr>
              <a:t>Цель:</a:t>
            </a:r>
            <a:r>
              <a:rPr b="0" lang="ru-RU" sz="3600" spc="-1" strike="noStrike">
                <a:solidFill>
                  <a:srgbClr val="a50021"/>
                </a:solidFill>
                <a:latin typeface="Calibri"/>
              </a:rPr>
              <a:t> формирование умений находить в тексте различные виды сложноподчиненных предложений, определять их вид и использовать в своей речи эти виды предложени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Методические 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Calibri"/>
              </a:rPr>
              <a:t>Определить, какие виды сложных предложений могут бы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spcBef>
                <a:spcPts val="700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Calibri"/>
              </a:rPr>
              <a:t>Раскрыть отличия СПП от других видов предлож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spcBef>
                <a:spcPts val="700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Calibri"/>
              </a:rPr>
              <a:t>Выяснить, какие классификации СПП существую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spcBef>
                <a:spcPts val="700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Calibri"/>
              </a:rPr>
              <a:t>Охарактеризовать виды СП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spcBef>
                <a:spcPts val="700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Calibri"/>
              </a:rPr>
              <a:t>Определить, какие союзы и союзные слова характерны для определенного вида СП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spcBef>
                <a:spcPts val="700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Calibri"/>
              </a:rPr>
              <a:t>Найти в тексте различные виды СПП и определить их вид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spcBef>
                <a:spcPts val="700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Представление результат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Таблиц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Букл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Презентац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Схематическое изображение прави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2.jpg"/>
          <p:cNvPicPr/>
          <p:nvPr/>
        </p:nvPicPr>
        <p:blipFill>
          <a:blip r:embed="rId1"/>
          <a:stretch/>
        </p:blipFill>
        <p:spPr>
          <a:xfrm rot="346200">
            <a:off x="3932280" y="3849480"/>
            <a:ext cx="39625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Мы будем изучать</a:t>
            </a: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:</a:t>
            </a:r>
            <a:br>
              <a:rPr sz="4000"/>
            </a:b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1. </a:t>
            </a: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Сложноподчиненные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142640"/>
            <a:ext cx="3886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Определительные;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Изъяснительны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Обстоятельствен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00600" y="990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Подлежащны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Сказуемны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Дополнительны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Определительны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Обстоятельственные (значение времени, места, цели, причины и т. т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Прямая со стрелкой 5"/>
          <p:cNvCxnSpPr/>
          <p:nvPr/>
        </p:nvCxnSpPr>
        <p:spPr>
          <a:xfrm flipH="1">
            <a:off x="1676160" y="1523880"/>
            <a:ext cx="205776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7"/>
          <p:cNvCxnSpPr/>
          <p:nvPr/>
        </p:nvCxnSpPr>
        <p:spPr>
          <a:xfrm>
            <a:off x="4724280" y="1523880"/>
            <a:ext cx="19821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6"/>
          <p:cNvSpPr/>
          <p:nvPr/>
        </p:nvSpPr>
        <p:spPr>
          <a:xfrm>
            <a:off x="914400" y="53341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Times New Roman"/>
              </a:rPr>
              <a:t>2. Союзы и союзные слова в СПП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Распределение по группа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1523880"/>
          <a:ext cx="8305920" cy="3073680"/>
        </p:xfrm>
        <a:graphic>
          <a:graphicData uri="http://schemas.openxmlformats.org/drawingml/2006/table">
            <a:tbl>
              <a:tblPr/>
              <a:tblGrid>
                <a:gridCol w="1600200"/>
                <a:gridCol w="2362320"/>
                <a:gridCol w="4343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омер групп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Тема изуч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частники групп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1 групп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1 классификация СП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8 челове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2 групп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2 классификация СП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8 челове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7964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4648320"/>
          <a:ext cx="8305920" cy="639720"/>
        </p:xfrm>
        <a:graphic>
          <a:graphicData uri="http://schemas.openxmlformats.org/drawingml/2006/table">
            <a:tbl>
              <a:tblPr/>
              <a:tblGrid>
                <a:gridCol w="1600200"/>
                <a:gridCol w="2362320"/>
                <a:gridCol w="4343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3 групп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Придаточные обстоятельствен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8 челове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Информационные ресурс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Валгина Н. С. Синтаксис современного русского языка. М., 197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Бабайцева В. В., Чеснокова Л. Д. Русский язык. Теория. 5-9 клас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Бунеев Р. Н., Бунеева Е. В Русский язык. Учебник для 9 класса основной школы. – М. : 2006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rosv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5"/>
                </a:solidFill>
                <a:latin typeface="Calibri"/>
              </a:rPr>
              <a:t>http://www.lingvotech.com/klasssp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елец</cp:lastModifiedBy>
  <dcterms:modified xsi:type="dcterms:W3CDTF">2010-05-17T05:54:04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